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45B-0FBC-4FE3-8D4C-59B83A11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332-0CD1-4003-B997-317382E0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ABF-E684-41FF-9FBB-FFF7AB7F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294-E768-4181-8C6E-2A34F4D9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26E0-9A60-474D-9D06-2878BF41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7B8F-FCF7-461E-BE72-F4849873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29EA-6B5E-4380-9CC7-00374F5C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3582-369B-495E-9657-9643F8C2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E49F-BE83-45BB-92D0-4858692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1705-648C-4E2B-AF54-6A15E634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8B7-A997-4196-A903-B1FE020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B12-A90E-4E36-A223-7D329F9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908-02B6-438A-BEEF-4138B37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9C6B-195E-4725-A809-CC572CB9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2751-78AC-4823-AD14-DBEB171C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E5ED-51A2-4FEF-8422-DACA88C2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3D1F-61FE-4E13-A87F-4482861B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D54-0DD9-4B56-B428-9E319813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FF7-94C7-44EF-B2E3-C8E86FC8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878-7104-42C5-8F6C-510B3570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B73-968E-48D6-AD37-8D04F206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17B-3025-4598-977D-0D46897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8F4-9CBA-4794-9A0C-EB2E809E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E18-3156-400C-B436-C6CB88A0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94E3-C2E0-41D8-8404-1B6265EF2A0C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527C-ABCF-4C01-9953-256F9A1FAFD5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99080" y="2730600"/>
            <a:ext cx="34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1066680" y="1600200"/>
            <a:ext cx="69343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Sandbar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120" y="5333760"/>
            <a:ext cx="5715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 long ridge of sand in a river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r near a sho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38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6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443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Talus Slop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5105520"/>
            <a:ext cx="73152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 cone-shaped deposit at the bottom of a hill or mountain caused by grav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181480" cy="34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7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96040" cy="438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Delta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5334120"/>
            <a:ext cx="77724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s a finger-shaped deposit of sediments at the mouth of a riv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377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8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1560" y="1600200"/>
            <a:ext cx="685944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Leve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4952880"/>
            <a:ext cx="701028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 ridge-like deposit of sediments on a floodplai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32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9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230800" cy="347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Drumli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51811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n oval-shaped deposit of glacial til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27400" cy="279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1. What is this general category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of deposition called?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67200" y="1600200"/>
            <a:ext cx="30081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Beach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a deposit of sand next to a body of water, such as a river or ocea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048120" cy="406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n Alluvial Deposi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362320" y="5181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rock debris transported and deposited by a riv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800440" cy="373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3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896080" cy="369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Floodplain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54100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 flattened deposit on both sides of a river caused by a floo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684760" cy="360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2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803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Sand Dun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5486040"/>
            <a:ext cx="7619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 a mound of sand deposited by wind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1148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3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367680" cy="424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Loess (pronounced ‘less’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20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eposit made of fine layers of glacial silt and sand which are deposited in the same area by the action of win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29019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4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48520" cy="445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Glacial Morain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696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moraine is a ridge of till deposited at the front or side edge of a glacier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354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5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867640" cy="440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21:05:01Z</dcterms:created>
  <dc:creator>Eric Knapp</dc:creator>
  <dc:description/>
  <dc:language>en-US</dc:language>
  <cp:lastModifiedBy>staff</cp:lastModifiedBy>
  <dcterms:modified xsi:type="dcterms:W3CDTF">2008-01-07T15:29:26Z</dcterms:modified>
  <cp:revision>141</cp:revision>
  <dc:subject/>
  <dc:title>Depositions are Everywhere!</dc:title>
</cp:coreProperties>
</file>